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B1EF-80F4-40D0-BB10-ED119DDE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2E4-086A-4C14-A09F-FFBC1F5A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976-F673-4551-87C0-7E0FB2C7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F64-5444-46FF-9B72-48CB1D1C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7A52-B926-45DC-8EFF-2C106ADC4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083-2D1D-4F61-B9DA-4FF879C2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DEA-4D86-469F-9D4A-A88FE6CC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7B7-AAD0-4836-B87A-7D9F1CA6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556-171A-4295-BC4D-6D04CDDB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A92-650A-4442-8BC5-23E635A4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3B7A-978B-4BCB-9536-592F4CCB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4D6-D74B-4417-8CE2-94558209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33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66476A-BCDA-40EE-8C34-FB9948A393E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anhandlebandshell.com/" TargetMode="External"/><Relationship Id="rId2" Type="http://schemas.openxmlformats.org/officeDocument/2006/relationships/hyperlink" Target="http://www.fluxfoundation.org/" TargetMode="External"/><Relationship Id="rId3" Type="http://schemas.openxmlformats.org/officeDocument/2006/relationships/hyperlink" Target="http://www.flaminglotus.com/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948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Fundraising f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rt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sented by Will C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ember 13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ings To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brace realistic optim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k for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k for non-monetary do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erials, volunteer labor, transportation, fundraiser items for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w appreciation for don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ly and/or priv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transparent: where’s the money go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 profes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ample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anhandle Band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panhandlebandshel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lux Fou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ww.fluxfoundation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aming Lotus Gir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ww.flaminglotu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et Up Your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draising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the primary art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a key artistic collabo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lan Your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dget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horough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much money do you n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y that by 15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et Up A Fundraising Infra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o are you getting money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are you collecting mone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ise a fundraising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mple, consolidated, conven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Fundraising Techn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wdsourcing: social 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ckstarter, Indiego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pal vs. We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ation butt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ndrai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ffles, Live Auctions, Silent A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ations for specific project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tching do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1(c)3 fiscal sponso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Public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the social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l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ebook, Twit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mail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iers, post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ule of 7 Im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void Pitfalls: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e Like Goldilo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for too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for too li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too o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too seld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too 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too 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ing AFTER the project’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or fati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Kickstarter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es Kickstarter wor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n’t ask too b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ver your 5% Kickstarter f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known donors in your po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hwag to create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ckstarter publi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egogo vs. Kickst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iegogo: 4% if successful, 9% if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rowing Fundrais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o’s your event plann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tax the art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 your per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t stuff do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ll everyth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ve and/or silent auctions, art sales, raffles, sell plans/parts, etc. -- get cre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sure margins are worth the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iz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ate buzz around your ar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1:27:56Z</dcterms:created>
  <dc:creator>Site License</dc:creator>
  <dc:description/>
  <dc:language>en-US</dc:language>
  <cp:lastModifiedBy>Site License</cp:lastModifiedBy>
  <dcterms:modified xsi:type="dcterms:W3CDTF">2012-03-30T22:23:17Z</dcterms:modified>
  <cp:revision>12</cp:revision>
  <dc:subject/>
  <dc:title>Fundraising for  Art Projects</dc:title>
</cp:coreProperties>
</file>