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454-897F-4BFF-A625-1F9FF18E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AF5-4822-48DB-BB31-FE5D0B1F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12F-1B80-4A19-B1B1-D9B27FBC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88B-6E6B-481F-9C49-E4859BA0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4B8-62EA-4967-9B40-92E9E2AD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B70-E7F3-4BC4-8BB0-80846A8C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E0E-27D3-4D94-A599-9632F078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2BC-2F45-44B1-A3FF-7FE58CA2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D0F-F40C-40C7-8B69-0857A566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FE0-1EA5-42B4-91E0-9ABD01D7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F3A-2400-4E31-A7BD-C24652AF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6A5-22F1-4BB3-B154-1635FCFF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0C32C8-C0FB-4ECF-A2B1-F715BAE0C3E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anhandlebandshell.com/" TargetMode="External"/><Relationship Id="rId2" Type="http://schemas.openxmlformats.org/officeDocument/2006/relationships/hyperlink" Target="http://www.fluxfoundation.org/" TargetMode="External"/><Relationship Id="rId3" Type="http://schemas.openxmlformats.org/officeDocument/2006/relationships/hyperlink" Target="http://www.flaminglotus.com/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Fundraising f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r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ed by Will 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ember 13,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ings To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brace realistic optim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k for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k for non-monetary do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terials, volunteer labor, transportation, fundraiser items for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w appreciation for don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ly and/or priv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 transparent: where’s the money go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 profes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ample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anhandle Band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panhandlebandshel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lux Fou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fluxfoundation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ming Lotus Gir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flaminglotu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et Up Your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draising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the primary art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a key artistic collabo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lan Your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dge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orough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much money do you n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y that by 1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et Up A Fundraising Infra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o are you getting money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are you collecting mone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ise a fundraising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e, consolidated, conven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Fundraising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wdsourcing: social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ckstarter, Indiego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pal vs. We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ation but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drai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ffles, Live Auctions, Silent A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ations for specific project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ing do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1(c)3 fiscal sponso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ubl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e social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ebook, Twit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ail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iers, post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ule of 7 Im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void Pitfalls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e Like Goldi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ing for too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ing for too li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ing too o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ing too sel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ing too 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ing too 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ing AFTER the project’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or fati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Kickstarter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es Kickstarter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ask too b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ver your 5% Kickstarter f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p known donors in your po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hwag to create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ckstarter pub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egogo vs. Kickst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egogo: 4% if successful, 9% if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rowing Fundrai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’s your event pla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’t tax the ar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 your per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 stuff do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l everyth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ve and/or silent auctions, art sales, raffles, sell plans/parts, etc. -- get cre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sure margins are worth the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iz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te buzz around your ar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1:27:56Z</dcterms:created>
  <dc:creator>Site License</dc:creator>
  <dc:description/>
  <dc:language>en-US</dc:language>
  <cp:lastModifiedBy>Site License</cp:lastModifiedBy>
  <dcterms:modified xsi:type="dcterms:W3CDTF">2012-03-30T22:23:17Z</dcterms:modified>
  <cp:revision>12</cp:revision>
  <dc:subject/>
  <dc:title>Fundraising for  Art Projects</dc:title>
</cp:coreProperties>
</file>